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6D3-2079-4366-9231-E994194D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015-9DF8-440D-9A62-2942BBB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A71-F9C8-46F5-AB49-34E23BE1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2C9-086A-4CE4-A1B2-2632E49F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E528-680A-455D-901D-4100D560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BD0D-3991-4E96-9B4D-6F2C8F3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681-D277-419D-8C33-F2CE364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F83-54AD-45E3-A548-4F5428FE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D777-A75B-4976-A1D8-276ECA1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F25-8FA9-43A5-86D0-FBF7718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FC61-B81C-4771-9E01-A482C92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0FD-E221-4A92-87EC-878C34EA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AF23-0CA9-416F-AA17-065A314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6B0-262D-4774-A635-A49CCEAA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A782-21D2-44BA-BC3A-7853AFA4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BB34-2980-4149-80C0-F45D9BD7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5D40-02A5-48D6-B827-A086ADA9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FCFC-A999-4318-977E-72B2645D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33B2-D9CD-49E7-9D1C-72ECF53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2D7B-AC5A-4A2B-9029-FB8F2CB2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8303-7016-4224-BBBD-7B30416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C622-D598-4F6B-A2AF-25AB52D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591-A2F8-43E8-8E05-C7585E4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DC9C-6925-48F9-B3B9-CC10097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FBF8-08C9-435E-B53A-F9EABB0F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5308-0750-4B48-A631-A0D64372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C713-C3FE-4970-BD9F-AA98035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E780-B716-4569-BAAE-3053F046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986D-5B31-4A2B-875E-D867FC6B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5FC4-3EF3-4D1F-8F49-C53A9AA7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169F-0469-4BDA-953D-2F9FBD3F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DD1C-6F27-4D99-B418-9B10D43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C521-B85E-4BB3-907B-A20D86B8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3B2-EDBD-4322-ABC5-E49A88EC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3EFE-D984-4827-B6FC-D8C3403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DF59-B9CA-4FC4-9A49-35C0AAE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E482-D2A9-4C5C-88D5-22C7ADD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9FC4-CD1F-4655-9FCB-ACF3EE72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526C-9A66-4C0B-8DA6-5D4C739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4B15C-A42A-46B3-A135-A9CB5B63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2611-ED70-4B18-848B-ED3B291A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7F76-4E40-46BC-B4F4-DA8BB511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CBE3-8E3C-4628-A01D-2A6A4BBE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986DA-8451-4A59-92BA-75A017C3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D6A-4B8C-4E88-9218-E27CEB3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E887-F108-4B9F-8098-56B3E3C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7E04D-B990-4A3B-8F27-97BDF85F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05F9-8EE5-4B97-AEE7-0E6E0C8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D482-24D8-4C32-8092-68286A0E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B675-6A5A-460D-A79D-57AD82B4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D2B9-E7C7-417E-85BB-A4EF24D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43AA4-B71C-4DCF-8FC4-4C9442B3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9A8A-A3AA-4EBA-A3AB-BF265B8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9750-2158-4FDC-B9F2-221607DB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3141-50C1-49B8-9852-202CA7F8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ED4-10F3-4FB6-9A57-4A30C0F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D8D8-2B65-432B-94A4-36371662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CA8C-FF88-4BB0-9D6B-36CC0F04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9CD63-41D9-4FDB-B395-1E17ADF8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C5FC-F94D-432C-8EF1-4B44201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0693-531F-4FD0-B3FA-20D6719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701E-9A5A-4436-B6BB-CE73AC5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C6D5-4479-45D6-95C4-D82616E6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36B94-B3BA-4B93-A724-74F3C47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1D7F-F64E-42F3-B82E-18BDB6D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9CDDE-9530-46AB-9C1F-E66DBAF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9E7-5A5D-42E7-BF5B-24F5DEEA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F10B7-B406-4A5B-B22B-2342C32B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0663-20B7-4BD4-85B2-FEE5D0F5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6065-07F2-4EA6-8C2C-DD09230D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95AA1-5123-4A36-BC8A-6754856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F99BF-1E9C-4917-BB42-7A9A1DA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9F29-937A-4DE6-8E32-BD29FDF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4D40D-CF96-430A-A9F8-A440C837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27AA-3FED-49CA-8B61-39EBA72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6DDEB-2EBB-4E13-9307-A4D1D8B5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48FE-A212-47FF-9031-971AACD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70F-1EF6-4207-B3A7-0770351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B0F5-ADB2-4CF6-BDE1-C5995CC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18A2-ADCF-447D-8527-B535E8F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1077C-540C-4F5B-86CF-E1A81CA9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16E7-79A8-4563-9F0D-B084176B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0D14-D118-478A-A3E5-2DE380D3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A49F2-5DCA-4E93-8C5A-3226D4B6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B8BF6-6D70-4ABE-B284-2BE8D027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E4E1A-7F3D-4A01-AEC4-8181777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DAA86-0E69-43D9-8A3E-A22A80F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B3DD-DECC-4EDD-8701-85B2356E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448-6500-4FB1-9631-833E45D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765B6-10F1-4D21-AF99-184501B2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BC57-8127-447B-B423-1A3B378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350A-9C75-411E-886B-21709100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A05D2-0734-48CA-8FE6-91CC5A3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E7DB-4E7D-4112-96B2-213F7BE9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02D2-52CC-4C2A-A188-0E5A9586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D44FF-D029-404E-ADDE-062AD87E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AF09-0EF9-4CD3-A481-367B640EF9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F623-1158-43AD-92D9-8D6D174C58F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4A87-EB31-4C7C-8D52-F6CCB58712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578-41D5-425A-B618-CACDDF2643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CAC-41DA-4CA8-AD6C-794B46C2C1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EE8D-B475-4843-B34C-19E33F0E71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AEB-D210-4E2E-AD15-7E611E35EA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D66-30F4-4E04-8913-60ED0726BBF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houston.org/" TargetMode="External"/><Relationship Id="rId2" Type="http://schemas.openxmlformats.org/officeDocument/2006/relationships/hyperlink" Target="http://www.hmns.org/" TargetMode="External"/><Relationship Id="rId3" Type="http://schemas.openxmlformats.org/officeDocument/2006/relationships/hyperlink" Target="http://www.menil.org/" TargetMode="External"/><Relationship Id="rId4" Type="http://schemas.openxmlformats.org/officeDocument/2006/relationships/hyperlink" Target="http://www.buffalosoldiermuseum.com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heritagesociety.org/" TargetMode="External"/><Relationship Id="rId2" Type="http://schemas.openxmlformats.org/officeDocument/2006/relationships/hyperlink" Target="http://www.printingmuseum.org/" TargetMode="External"/><Relationship Id="rId3" Type="http://schemas.openxmlformats.org/officeDocument/2006/relationships/hyperlink" Target="http://www.1940airterminal.org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lleroutdoortheatre.com/" TargetMode="External"/><Relationship Id="rId2" Type="http://schemas.openxmlformats.org/officeDocument/2006/relationships/hyperlink" Target="http://www.jgarden.org/" TargetMode="External"/><Relationship Id="rId3" Type="http://schemas.openxmlformats.org/officeDocument/2006/relationships/hyperlink" Target="http://www.georgeranch.org/" TargetMode="External"/><Relationship Id="rId4" Type="http://schemas.openxmlformats.org/officeDocument/2006/relationships/hyperlink" Target="http://www.drt-inc.org/loghouse.htm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oustonfiremuseum.org/" TargetMode="External"/><Relationship Id="rId2" Type="http://schemas.openxmlformats.org/officeDocument/2006/relationships/hyperlink" Target="http://www.portofhouston.com/samhou/samhou.html" TargetMode="External"/><Relationship Id="rId3" Type="http://schemas.openxmlformats.org/officeDocument/2006/relationships/hyperlink" Target="http://www.lsfm.org/" TargetMode="External"/><Relationship Id="rId4" Type="http://schemas.openxmlformats.org/officeDocument/2006/relationships/hyperlink" Target="http://www.galvestonhistory.org/" TargetMode="External"/><Relationship Id="rId5" Type="http://schemas.openxmlformats.org/officeDocument/2006/relationships/hyperlink" Target="http://www.galvestonhistory.org/Texas_Seaport_Museum.asp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ceanstaroec.com/museum/tour.htm" TargetMode="External"/><Relationship Id="rId2" Type="http://schemas.openxmlformats.org/officeDocument/2006/relationships/hyperlink" Target="http://www.galvestonrrmuseum.com/" TargetMode="External"/><Relationship Id="rId3" Type="http://schemas.openxmlformats.org/officeDocument/2006/relationships/hyperlink" Target="http://oneroomschoolhouse.org/" TargetMode="External"/><Relationship Id="rId4" Type="http://schemas.openxmlformats.org/officeDocument/2006/relationships/hyperlink" Target="http://www.sanjacinto-museum.org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pwd.state.tx.us/spdest/findadest/parks/battleship_texas/" TargetMode="External"/><Relationship Id="rId2" Type="http://schemas.openxmlformats.org/officeDocument/2006/relationships/hyperlink" Target="http://www.battleshiptexas.org/index.cfm" TargetMode="External"/><Relationship Id="rId3" Type="http://schemas.openxmlformats.org/officeDocument/2006/relationships/hyperlink" Target="http://www.spacecenter.org/" TargetMode="External"/><Relationship Id="rId4" Type="http://schemas.openxmlformats.org/officeDocument/2006/relationships/hyperlink" Target="http://www.abnc.org/" TargetMode="External"/><Relationship Id="rId5" Type="http://schemas.openxmlformats.org/officeDocument/2006/relationships/hyperlink" Target="http://www.gcoem.org/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ocialstudies.org/about" TargetMode="External"/><Relationship Id="rId2" Type="http://schemas.openxmlformats.org/officeDocument/2006/relationships/hyperlink" Target="http://www.csun.edu/~hcedu013/onlineactivities.html" TargetMode="External"/><Relationship Id="rId3" Type="http://schemas.openxmlformats.org/officeDocument/2006/relationships/hyperlink" Target="http://www.csun.edu/~hcedu013/onlineactivities.html" TargetMode="External"/><Relationship Id="rId4" Type="http://schemas.openxmlformats.org/officeDocument/2006/relationships/hyperlink" Target="http://www.pbs.org/teachers/socialstudies/" TargetMode="External"/><Relationship Id="rId5" Type="http://schemas.openxmlformats.org/officeDocument/2006/relationships/hyperlink" Target="http://free.ed.gov/subjects.cfm?subject_id=178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fsocialstudies.com/" TargetMode="External"/><Relationship Id="rId2" Type="http://schemas.openxmlformats.org/officeDocument/2006/relationships/hyperlink" Target="http://smithsonianeducation.org/" TargetMode="External"/><Relationship Id="rId3" Type="http://schemas.openxmlformats.org/officeDocument/2006/relationships/hyperlink" Target="http://www.discoveryeducation.com/" TargetMode="External"/><Relationship Id="rId4" Type="http://schemas.openxmlformats.org/officeDocument/2006/relationships/hyperlink" Target="http://www.un.org/cyberschoolbus/peace/home.asp" TargetMode="External"/><Relationship Id="rId5" Type="http://schemas.openxmlformats.org/officeDocument/2006/relationships/hyperlink" Target="http://www.chron.com/cie/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Deirdri Join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Keli Swan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Cindy Crookst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Keli\AppData\Local\Microsoft\Windows\Temporary Internet Files\Content.IE5\0FD0PLQS\MCj04380590000[1].png"/>
          <p:cNvPicPr/>
          <p:nvPr/>
        </p:nvPicPr>
        <p:blipFill>
          <a:blip r:embed="rId2"/>
          <a:stretch/>
        </p:blipFill>
        <p:spPr>
          <a:xfrm>
            <a:off x="609480" y="99072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52280" y="1481040"/>
            <a:ext cx="883944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s and characteristics of places and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hysical characteristics of places and regions affect people's activities and settlement patter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use and modify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s of producers and consumers in the production of goods and servic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government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public officia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48068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gnificance of works of art in the local communi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science and technology have affected life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ir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individuals, events, and ideas have influenced the history of various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ommon characteristics of communities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adapt to variations in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location, distance, and direction on maps and glob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s of spending and saving money. Understands the concept of an economic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businesses operate in the U.S. free enterprise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structure and functions of local gover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individual and group decisions on communities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ethnic and/or cultural celebrations of the United States and other n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real and mythical heroes in shaping the culture of communities, the state, and the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riters and artists to the cultural heritage of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14264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effectively in written, oral, and visual form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urth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milarities and differences of Native-American groups in Texas and the Western Hemisphere before European exploration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European exploration and colonization of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the Texas Revolution, the Republic of Texas, and the annexation of Texas to the United State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ssues, events, and individuals of the 20th century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geographic tools to collect, analyze, and interpret data. Understands the concept of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 and patterns of settlement and the geographic factors that influence where people live. pres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adapt to and modify their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economic patterns of early societies in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easons for exploration and colonization. Understands the characteristics and benefits of the free enterprise system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patterns of work and economic activities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xas, the United States, and other parts of the world are economically interdepend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organized governments in different ways during the early development of Texa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deas in historic document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voluntary individual participation in the democratic proces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effective leadership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tributions of people of various racial, ethnic, and religious groups to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science and technology on life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B)  use a decision-making process to identify a situation that requires a decision, gather information, identify options, predict consequences, and take action to implement a decis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Children’s Museum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cmhouston.org/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Museum of Natural Sci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mns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Menil Colle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eni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Buffalo Soldiers Natio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buffalosoldie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eritage Society at Sam Houston Par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eritagesociety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useum of Printing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rinting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1940 Air Termi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1940airtermina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lephon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714 Ashland St., Houston, TX 77008 -  (713) 861-978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192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People, Past and Present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peopl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famil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organizes their life around events, time, and routin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emonstrates that all people need food, clothing, and shel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participates in activities to help them become aware of what 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eans to be a consum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iscusses the roles and responsibilities of community worker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and creates common features in her immediate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iller Outdoor Theat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illeroutdoortheatre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apanese Garde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jgarden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rge Ranch Historical Ran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georgeranch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Pioneer Memorial Log Hou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drt-inc.org/loghouse.htm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Fir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ustonfire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ort of Houston Boat Tou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ortofhouston.com/samhou/samhou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one Star Flight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lsf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Galveston Historical Foun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galvestonhistory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alvestonhistory.org/Texas_Seaport_Museum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ffshore Energy Center’s Ocean Star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oceanstaroec.com/museum/tour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Railroad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galvestonr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st Bay Common Sch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oneroomschoolhouse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an Jacinto Museum of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sanjacinto-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ttleship Tex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pwd.state.tx.us/spdest/findadest/parks/battleship_texas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attleshiptexas.org/index.cf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pace Center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pacecenter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rmand Bayo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abnc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County Office of Emergency Manag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coem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90360" y="148104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ibrari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munity Wor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nstruction Si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ocery St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Content Placeholder 1"/>
          <p:cNvSpPr/>
          <p:nvPr/>
        </p:nvSpPr>
        <p:spPr>
          <a:xfrm>
            <a:off x="4648320" y="14940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ligious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ete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ity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verything &amp; Everyon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CSS (National Council for the Social Studie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ocialstudies.org/ab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lifornia State University, Northridge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csun.edu/~hcedu013/onlineactivit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Teacher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pbs.org/teachers/socialstudies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ederal Resources for Educational Excellence (FRE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free.ed.gov/subjects.cfm?subject_id=17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earson – Scott Foresman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fsocialstudies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Educatio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mithsonianeducation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iscovery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discoveryeducation.com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nited Nations – CyberSchoolb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un.org/cyberschoolbus/peace/home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uston Chronicle – Chronicle in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chron.com/cie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– Teachers Social Skills &amp; Safety (Early Childhoo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bs.org/teachers/earlychildhood/theme/games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ational Geographic Ki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kids.nationalgeographic.com/Places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– Great History Myst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pg.si.edu/edu/brush/mystery/index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aps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aps.com/FunFacts.aspx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52388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r. Nussbaum.com – Social Studies Gam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rnussbaum.com/socgames.ht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imary Game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rimarygames.com/social_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me Aquarium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gamequarium.com/social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eta’s Game S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games.pppst.com/socialstud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earth.google.co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flags of the United States and Tex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recites the Pledge of Allegiance to the United States flag and the state flag and observes a moment of sile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engages in voting as a method for group decision ma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identifies similarities among people like himself and  classmates as well as among himself and people from other cultur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Kindergarten, the focus is on the self, home, family, and classroom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y of our state and national heritage begins with an examination of the celebration of patriotic holidays and the contributions of historical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lidays are celebr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storical figures and ordinary people helped to shape the community, state, and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 of location Over/under/near/far/left/r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ent understands the physical and human characteristics of the environment landforms, bodies of water, natural resources, and weather: types of houses and ways of earning a living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basic human needs; and  explain how basic human needs of food, clothing, and shelter can be met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jobs in the home, school, and community;  explain why people have job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purposes for having rules;  identify rules that provide order, security, and safety in the home and school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authority figures in the home, school, and community; explain how authority figures make and enforce rul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the flags of the United States and Tex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cite the Pledge of Allegia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xplain the use of voting as a method for group decision mak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personal attributes common to all peopl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differences among people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family customs and traditions and explain their importance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mpare family customs and traditions; and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escribe customs of the local community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81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9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examples of technology used in the home and schoo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technology helps accomplish specific task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his or her life might be different without modern technolog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ist ways in which technology meets people's need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oral sources such as conversations, interviews, and music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visual sources such as pictures, symbols, television, maps, computer images, print material, and artifacts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quence and categorize informa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main ideas from oral, visual, and print sourc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xpress ideas orally based on knowledge and experiences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reate and interpret visuals including pictures and m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decision-making process to identify a situation that requires a decision, gather information, identify options, predict consequences, and take action to implement a decisio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15920" y="133200"/>
            <a:ext cx="8504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irst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how historical figures helped to shape our community, state, and nation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origins of customs, holidays, and celebrations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relative location of place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purpose of maps and globes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various physical and human characteristics of the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conomics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goods an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dition of not being able to have all the goods and services one wa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valu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rules and law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authority figures and public offici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families meet basic human need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family beliefs, customs, language, and tradi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chnology has affected daily life, past and pres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historical significance of landmarks and celebrations in the community, state, and nat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various sources provide information about the past. interview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istorical figures and ordinary people helped to shape our community, state, and nati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3:49:23Z</dcterms:created>
  <dc:creator>Keli Swann</dc:creator>
  <dc:description/>
  <dc:language>en-US</dc:language>
  <cp:lastModifiedBy>Cindy Crookston</cp:lastModifiedBy>
  <dcterms:modified xsi:type="dcterms:W3CDTF">2009-10-28T19:02:14Z</dcterms:modified>
  <cp:revision>53</cp:revision>
  <dc:subject/>
  <dc:title>Social Studies</dc:title>
</cp:coreProperties>
</file>