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C65E-C69F-462A-BA8E-3AC182F4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ED3-D9DB-4536-815E-540E9C22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1B6-66D8-40C5-AFF5-26A5D0E5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B39-C2EB-42FC-B407-F91646D9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4EA0-2E45-4F88-89B3-88EC159B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97B2-278E-4C84-B8ED-AE9765A8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2815-D2E1-46A4-98C0-5908D838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A482-008E-4549-9BCB-4BE0E08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2C62-1372-443E-A344-627FE4B5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A1C3-2556-4916-9C5F-7C0971DA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3315-187F-48D8-AD86-F4239110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263-BA7E-4E41-99EF-50BCAEB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F07D-B16D-41E0-99F0-663C7C0A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A34B-1DE2-4048-B2B5-CBD1B77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2E03-5535-4F9A-856D-D41FB8F2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798-80FC-422D-9052-2F15888E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354F-C002-48C7-AF49-3CE05A53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0DEA-AE31-4073-ADAC-E47FAF91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0CB1-7912-4391-8B1E-F53966EB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5C5F-C56D-483F-B07F-2CA61FD5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424CA-BEAE-4CF9-8B1D-6FF4FD7C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577F9-C69D-4594-B679-3DB0D7CB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FFB-0536-4524-9FB4-D8DB6FB9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5FB9-CEFE-4173-A25D-396C674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E4B2-02D0-4C5D-AA7A-9AD034AF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1604-8A31-40C4-91D3-52584B08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9FFC-7130-4304-9FC5-2D9CD35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B69F-C7D5-4707-B02D-4694C911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CEE4-3292-4CF2-A1AA-32EDA289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676B-9A75-4FEE-B210-45E19898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F5A51-8431-42B2-B247-EA0D6EDD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7183-227F-442C-86DE-48DADD2C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187DA-FD8F-4067-8455-72AAC407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D12-93E5-4557-BD08-FF94626C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D6CF-7C83-434F-9F38-F9DD05BD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9A151-6632-4B7D-B887-CE1895B7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86019-322D-495C-87B2-F6CD3C50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C465-9827-4329-BD89-27060A66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66D3-A7D9-494B-9CF8-1290B2B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90B4-20FB-4D43-BCE6-E82748EF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E120-0000-42FC-9AAD-61EFF970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DADF4-C3B2-4BA3-B4DE-B99A223E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E4960-2715-4AC3-A7CF-555E673E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E0F0-83B4-44E3-9FAB-B4BD75F7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577-47A7-46D3-9128-3E0951B7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C2CEB-5099-436F-A1AD-22676135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4492-988F-4173-9022-38B66CF6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47C9F-AD70-4290-850C-BDD9C2B1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866FF-B7EE-4625-B439-30A8D19C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278DD-D7EC-46EF-AA87-A039778F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020E3-ED9D-419D-8772-772B2724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8989D-883A-4B23-9C17-E22B1DE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57FED-629E-473D-A146-11ACC141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ACEC-0FE9-481B-BDA9-4D27BDB7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2E3E-1655-4DF1-A5F4-E71F3F07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8E3-A07E-4C72-A3B0-CDC77AB6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1F035-9F66-479D-BDD7-1B52A5DE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5E1E9-529F-43EE-8791-E3438F93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705FB-FA95-4C82-A421-F5F3A8FD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59490-79F9-4BFC-B4C7-CF2969FB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D12A2-85BD-4987-A34D-A1993D4E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0F581-7B2A-4A9E-8ADB-B200A4D0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3077-7420-488B-A283-6F848E02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6FEEC-C708-48E0-A579-EC86A08A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C1A68-D615-414E-9CFC-6E47F494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D8CE0-3813-4E13-812C-11901A93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2D4-8446-4CE9-8BB5-2E1DFD99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C37E-A4C4-468A-851E-0985489B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5A86A-B6E0-4F17-A8C9-7BEC0A6E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D047F-86C5-4C7D-91D0-7FBDB6A8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8071D-F48B-49D0-83F9-61305F6F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692D8-4CEA-4028-A96A-A6DC31E9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2202F-61B1-4F6B-A008-16D9D8AB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279A0-9D49-4DF5-9E6E-3FA4BAF0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04D18-29A7-478D-80B3-38DE6238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33B8C-CF5F-4D72-AE12-42358DE7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9C4B3-4C0E-4DD7-BC59-12C7D480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866-F09D-467C-AC01-99F09573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AA990-B142-40E3-AF2E-44D3B94D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0AD1-C2D9-4C1F-A551-5BF7C658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3D1E4-B8F7-4E4A-809E-CFB5A8B3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902CB-5AA4-4B10-8FFF-7B1E49FC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1E728-DB6B-4091-8D8C-03C029CB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B43A4-EF7E-465A-9D02-0348383D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E1492-BFE9-48B5-9A73-35745DAF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5C596-CB0D-4FB4-8B0C-B7D1B494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65850-69BF-4B78-9BBF-AACE8832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79B07-695A-4F30-B38F-987D3D25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1EC-1120-4B1A-AB9D-A6038594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4FA93-4FA9-4B0A-BFFD-3E43D87E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5475F-744A-4023-B473-31366B6A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ABB7E-E1EA-46E4-A36A-D6189BEC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2D1FE-F16B-42FF-8241-07EF55A5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6506D-23DE-4F9E-AA0D-4171CC36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728D1-DAF0-4E4A-BC90-A8835F06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F81D2-5E79-4ED1-B69A-4F53318B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F01A-1465-4632-A4C7-5A672563D3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67A6-9948-433F-9D43-0D222EFEA3C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6063-3E52-4744-ABAC-C9C87EA7092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95D3-5F2C-4004-9DDE-864E211151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6BD8-986B-4B78-B4DA-7AA6290F523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EB4-13EC-435D-BAF2-4BFE18DD1A6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19BC-E495-408A-8E7D-7FB57DB0F8A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31C5-625C-40CA-A2E5-02B4BC58E35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mhouston.org/" TargetMode="External"/><Relationship Id="rId2" Type="http://schemas.openxmlformats.org/officeDocument/2006/relationships/hyperlink" Target="http://www.hmns.org/" TargetMode="External"/><Relationship Id="rId3" Type="http://schemas.openxmlformats.org/officeDocument/2006/relationships/hyperlink" Target="http://www.menil.org/" TargetMode="External"/><Relationship Id="rId4" Type="http://schemas.openxmlformats.org/officeDocument/2006/relationships/hyperlink" Target="http://www.buffalosoldiermuseum.com/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heritagesociety.org/" TargetMode="External"/><Relationship Id="rId2" Type="http://schemas.openxmlformats.org/officeDocument/2006/relationships/hyperlink" Target="http://www.printingmuseum.org/" TargetMode="External"/><Relationship Id="rId3" Type="http://schemas.openxmlformats.org/officeDocument/2006/relationships/hyperlink" Target="http://www.1940airterminal.org/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illeroutdoortheatre.com/" TargetMode="External"/><Relationship Id="rId2" Type="http://schemas.openxmlformats.org/officeDocument/2006/relationships/hyperlink" Target="http://www.jgarden.org/" TargetMode="External"/><Relationship Id="rId3" Type="http://schemas.openxmlformats.org/officeDocument/2006/relationships/hyperlink" Target="http://www.georgeranch.org/" TargetMode="External"/><Relationship Id="rId4" Type="http://schemas.openxmlformats.org/officeDocument/2006/relationships/hyperlink" Target="http://www.drt-inc.org/loghouse.htm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houstonfiremuseum.org/" TargetMode="External"/><Relationship Id="rId2" Type="http://schemas.openxmlformats.org/officeDocument/2006/relationships/hyperlink" Target="http://www.portofhouston.com/samhou/samhou.html" TargetMode="External"/><Relationship Id="rId3" Type="http://schemas.openxmlformats.org/officeDocument/2006/relationships/hyperlink" Target="http://www.lsfm.org/" TargetMode="External"/><Relationship Id="rId4" Type="http://schemas.openxmlformats.org/officeDocument/2006/relationships/hyperlink" Target="http://www.galvestonhistory.org/" TargetMode="External"/><Relationship Id="rId5" Type="http://schemas.openxmlformats.org/officeDocument/2006/relationships/hyperlink" Target="http://www.galvestonhistory.org/Texas_Seaport_Museum.asp" TargetMode="Externa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ceanstaroec.com/museum/tour.htm" TargetMode="External"/><Relationship Id="rId2" Type="http://schemas.openxmlformats.org/officeDocument/2006/relationships/hyperlink" Target="http://www.galvestonrrmuseum.com/" TargetMode="External"/><Relationship Id="rId3" Type="http://schemas.openxmlformats.org/officeDocument/2006/relationships/hyperlink" Target="http://oneroomschoolhouse.org/" TargetMode="External"/><Relationship Id="rId4" Type="http://schemas.openxmlformats.org/officeDocument/2006/relationships/hyperlink" Target="http://www.sanjacinto-museum.org/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pwd.state.tx.us/spdest/findadest/parks/battleship_texas/" TargetMode="External"/><Relationship Id="rId2" Type="http://schemas.openxmlformats.org/officeDocument/2006/relationships/hyperlink" Target="http://www.battleshiptexas.org/index.cfm" TargetMode="External"/><Relationship Id="rId3" Type="http://schemas.openxmlformats.org/officeDocument/2006/relationships/hyperlink" Target="http://www.spacecenter.org/" TargetMode="External"/><Relationship Id="rId4" Type="http://schemas.openxmlformats.org/officeDocument/2006/relationships/hyperlink" Target="http://www.abnc.org/" TargetMode="External"/><Relationship Id="rId5" Type="http://schemas.openxmlformats.org/officeDocument/2006/relationships/hyperlink" Target="http://www.gcoem.org/" TargetMode="Externa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ocialstudies.org/about" TargetMode="External"/><Relationship Id="rId2" Type="http://schemas.openxmlformats.org/officeDocument/2006/relationships/hyperlink" Target="http://www.csun.edu/~hcedu013/onlineactivities.html" TargetMode="External"/><Relationship Id="rId3" Type="http://schemas.openxmlformats.org/officeDocument/2006/relationships/hyperlink" Target="http://www.csun.edu/~hcedu013/onlineactivities.html" TargetMode="External"/><Relationship Id="rId4" Type="http://schemas.openxmlformats.org/officeDocument/2006/relationships/hyperlink" Target="http://www.pbs.org/teachers/socialstudies/" TargetMode="External"/><Relationship Id="rId5" Type="http://schemas.openxmlformats.org/officeDocument/2006/relationships/hyperlink" Target="http://free.ed.gov/subjects.cfm?subject_id=178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fsocialstudies.com/" TargetMode="External"/><Relationship Id="rId2" Type="http://schemas.openxmlformats.org/officeDocument/2006/relationships/hyperlink" Target="http://smithsonianeducation.org/" TargetMode="External"/><Relationship Id="rId3" Type="http://schemas.openxmlformats.org/officeDocument/2006/relationships/hyperlink" Target="http://www.discoveryeducation.com/" TargetMode="External"/><Relationship Id="rId4" Type="http://schemas.openxmlformats.org/officeDocument/2006/relationships/hyperlink" Target="http://www.un.org/cyberschoolbus/peace/home.asp" TargetMode="External"/><Relationship Id="rId5" Type="http://schemas.openxmlformats.org/officeDocument/2006/relationships/hyperlink" Target="http://www.chron.com/cie/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Deirdri Join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Keli Swan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Cindy Crookst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C:\Users\Keli\AppData\Local\Microsoft\Windows\Temporary Internet Files\Content.IE5\0FD0PLQS\MCj04380590000[1].png"/>
          <p:cNvPicPr/>
          <p:nvPr/>
        </p:nvPicPr>
        <p:blipFill>
          <a:blip r:embed="rId2"/>
          <a:stretch/>
        </p:blipFill>
        <p:spPr>
          <a:xfrm>
            <a:off x="609480" y="99072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52280" y="1481040"/>
            <a:ext cx="883944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locations and characteristics of places and reg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hysical characteristics of places and regions affect people's activities and settlement patter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umans use and modify the physical enviro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wor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s of producers and consumers in the production of goods and service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 of government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public official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haracteristics of good citizenship as exemplified by historic figures and ordinary people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240" y="1480680"/>
            <a:ext cx="84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that represent American beliefs and principles and contribute to our national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significance of works of art in the local communi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science and technology have affected life, past and pres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in written, oral, and visual form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88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ird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individuals, events, and ideas have influenced the history of various communit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ommon characteristics of communities, past and pres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umans adapt to variations in the physical enviro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location, distance, and direction on maps and glob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s of spending and saving money. Understands the concept of an economic syste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businesses operate in the U.S. free enterprise system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basic structure and functions of local governm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characteristics of good citizenship as exemplified by historic figures and ordinary peopl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act of individual and group decisions on communities in a democratic socie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ethnic and/or cultural celebrations of the United States and other n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real and mythical heroes in shaping the culture of communities, the state, and the n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writers and artists to the cultural heritage of communit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14264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effectively in written, oral, and visual form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ourth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similarities and differences of Native-American groups in Texas and the Western Hemisphere before European exploration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auses and effects of European exploration and colonization of Texas and the Western Hemisp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auses and effects of the Texas Revolution, the Republic of Texas, and the annexation of Texas to the United States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068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issues, events, and individuals of the 20th century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geographic tools to collect, analyze, and interpret data. Understands the concept of reg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location and patterns of settlement and the geographic factors that influence where people live. present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eople adapt to and modify their enviro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basic economic patterns of early societies in Texas and the Western Hemispher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easons for exploration and colonization. Understands the characteristics and benefits of the free enterprise system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patterns of work and economic activities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3352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Texas, the United States, and other parts of the world are economically interdepend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people organized governments in different ways during the early development of Texas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ideas in historic documents of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of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voluntary individual participation in the democratic proces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effective leadership in a democratic societ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tributions of people of various racial, ethnic, and religious groups to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act of science and technology on life in Texa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ommunicates in written, oral, and visual form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 a problem-solving process to identify a problem, gather information, list and consider options, consider advantages and disadvantages, choose and implement a solution, and evaluate the effectiveness of the solution; an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B)  use a decision-making process to identify a situation that requires a decision, gather information, identify options, predict consequences, and take action to implement a decisi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Children’s Museum of Houst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cmhouston.org/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ouston Museum of Natural Scien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hmns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Menil Colle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menil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Buffalo Soldiers National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buffalosoldiermuseum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eritage Society at Sam Houston Par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eritagesociety.org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useum of Printing 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rinting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1940 Air Terminal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1940airterminal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elephone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714 Ashland St., Houston, TX 77008 -  (713) 861-978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51920" y="12193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People, Past and Present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similarities and differences in characteristics of peopl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similarities and differences in characteristics of famili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organizes their life around events, time, and routin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demonstrates that all people need food, clothing, and shel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participates in activities to help them become aware of what i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means to be a consum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discusses the roles and responsibilities of community workers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and creates common features in her immediate enviro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iller Outdoor Theat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milleroutdoortheatre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Japanese Garde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jgarden.or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eorge Ranch Historical Ranc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georgeranch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Pioneer Memorial Log Hou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drt-inc.org/loghouse.htm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Houston Fire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ustonfire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ort of Houston Boat Tou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ortofhouston.com/samhou/samhou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one Star Flight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lsf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he Galveston Historical Found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galvestonhistory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galvestonhistory.org/Texas_Seaport_Museum.asp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Offshore Energy Center’s Ocean Star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oceanstaroec.com/museum/tour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lveston Railroad Muse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galvestonrrmuseum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st Bay Common Schoo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oneroomschoolhouse.or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an Jacinto Museum of 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sanjacinto-museum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ttleship Tex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tpwd.state.tx.us/spdest/findadest/parks/battleship_texas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battleshiptexas.org/index.cf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pace Center of Houst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pacecenter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rmand Bayo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abnc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lveston County Office of Emergency Manage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gcoem.org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90360" y="148104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Libraria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mmunity Wor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Bank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onstruction Sit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ocery Sto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9" name="Content Placeholder 1"/>
          <p:cNvSpPr/>
          <p:nvPr/>
        </p:nvSpPr>
        <p:spPr>
          <a:xfrm>
            <a:off x="4648320" y="149400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ligious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Veter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and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ity Offi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verything &amp; Everyone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CSS (National Council for the Social Studie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ocialstudies.org/abo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California State University, Northridge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Resour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csun.edu/~hcedu013/onlineactivities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BS Teachers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pbs.org/teachers/socialstudies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ederal Resources for Educational Excellence (FRE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free.ed.gov/subjects.cfm?subject_id=178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earson – Scott Foresman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fsocialstudies.com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mithsonian Educatio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smithsonianeducation.org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Discovery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discoveryeducation.com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United Nations – CyberSchoolbu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un.org/cyberschoolbus/peace/home.asp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ouston Chronicle – Chronicle in Edu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chron.com/cie/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BS – Teachers Social Skills &amp; Safety (Early Childhoo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pbs.org/teachers/earlychildhood/theme/games.htm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National Geographic Kid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kids.nationalgeographic.com/Places/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mithsonian – Great History Myste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pg.si.edu/edu/brush/mystery/index.html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aps.co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maps.com/FunFacts.aspx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52388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Mr. Nussbaum.com – Social Studies Gam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mrnussbaum.com/socgames.htm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Primary Games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primarygames.com/social_studies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ame Aquarium – Social Stud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gamequarium.com/socialstudies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eta’s Game S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games.pppst.com/socialstudies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ogle Eart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earth.google.com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identifies flags of the United States and Texa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ild recites the Pledge of Allegiance to the United States flag and the state flag and observes a moment of silen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hild engages in voting as a method for group decision makin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child identifies similarities among people like himself and  classmates as well as among himself and people from other cultur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 Kindergarten, the focus is on the self, home, family, and classroom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study of our state and national heritage begins with an examination of the celebration of patriotic holidays and the contributions of historical people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lidays are celebratio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storical figures and ordinary people helped to shape the community, state, and n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hronolog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 of location Over/under/near/far/left/righ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he student understands the physical and human characteristics of the environment landforms, bodies of water, natural resources, and weather: types of houses and ways of earning a living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basic human needs; and  explain how basic human needs of food, clothing, and shelter can be met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jobs in the home, school, and community;  explain why people have job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purposes for having rules;  identify rules that provide order, security, and safety in the home and school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authority figures in the home, school, and community; explain how authority figures make and enforce rul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dentify the flags of the United States and Tex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Recite the Pledge of Allegianc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xplain the use of voting as a method for group decision mak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personal attributes common to all peopl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differences among people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Identify family customs and traditions and explain their importance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Compare family customs and traditions; and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Describe customs of the local community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816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0492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dentify examples of technology used in the home and schoo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scribe how technology helps accomplish specific task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escribe how his or her life might be different without modern technolog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ist ways in which technology meets people's need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tain information about a topic using a variety of oral sources such as conversations, interviews, and music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btain information about a topic using a variety of visual sources such as pictures, symbols, television, maps, computer images, print material, and artifacts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quence and categorize information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dentify main ideas from oral, visual, and print source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xpress ideas orally based on knowledge and experiences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reate and interpret visuals including pictures and map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 a problem-solving process to identify a problem, gather information, list and consider options, consider advantages and disadvantages, choose and implement a solution, and evaluate the effectiveness of the solution; an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 a decision-making process to identify a situation that requires a decision, gather information, identify options, predict consequences, and take action to implement a decision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15920" y="133200"/>
            <a:ext cx="85042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First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how historical figures helped to shape our community, state, and nation. The student is expect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origins of customs, holidays, and celebrations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eograph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y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relative location of place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purpose of maps and globes. The student is expect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various physical and human characteristics of the environ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Economics.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stands the concepts of goods and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dition of not being able to have all the goods and services one want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value of work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purpose of rules and law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role of authority figures and public officia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itizenship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important customs, symbols, and celebrations that represent American beliefs and principles and contribute to our national identi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Cultur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families meet basic human need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importance of family beliefs, customs, language, and tradition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cience, technology, and societ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technology has affected daily life, past and present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Social studies skill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pplies critical-thinking skills to organize and use information acquired from a variety of sources including electronic technology. Communicates in written, oral, and visual form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es problem-solving and decision-making skills, working independently and with others, in a variety of setting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Second Gra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historical significance of landmarks and celebrations in the community, state, and nati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the concepts of time and chronology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various sources provide information about the past. interview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derstands how historical figures and ordinary people helped to shape our community, state, and nation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3:49:23Z</dcterms:created>
  <dc:creator>Keli Swann</dc:creator>
  <dc:description/>
  <dc:language>en-US</dc:language>
  <cp:lastModifiedBy>Cindy Crookston</cp:lastModifiedBy>
  <dcterms:modified xsi:type="dcterms:W3CDTF">2009-10-28T19:02:14Z</dcterms:modified>
  <cp:revision>53</cp:revision>
  <dc:subject/>
  <dc:title>Social Studies</dc:title>
</cp:coreProperties>
</file>