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497F-7D77-42A4-B74D-C1369E02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3AA4-4FD2-47B2-83A8-54788FC9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D349-F93F-44E0-923A-A12EDD8F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580C-0EC3-494E-BFCE-F2573B17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659E-D23C-4D86-8CAD-32AF2CED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1B13-FE69-4BFD-88F4-98EFE72B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1AAF-C09C-439A-8796-64F2DEF9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4DB6-9FE1-4194-961F-2364E529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31B0-C28D-4552-9ED7-AB88B1BE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131C-275C-4638-BAA4-B211FE7B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8331-B393-47DE-BA57-9042D553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B3E2-F967-490D-9597-46536981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39EF-2209-4834-AF4A-C7C0A001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0144-1F33-4400-8483-6A5B0BDE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134A-05A1-4880-BDDA-3C169714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E7BB-3F98-4B53-99BA-F49034E2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6122-C4FE-483A-98C5-9819F9B9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FBA69-2FE1-43AF-BBD6-17292481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6F490-FEA4-470F-AFDF-1EF5B10F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F2CB8-D67D-4DA0-B8BF-69C8D022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3D20C-2BBF-4410-A898-C993D861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BDF73-6EA0-4891-B31F-C725C1A7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68E1-B328-4162-99BB-8BEAF588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99956-BF2B-4095-B238-C03581DF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5E3FF-FF39-44BD-86D9-BDF83B84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E66A0-B424-48D8-A148-13D7550C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0303A-71BC-4990-9544-D7DD8A73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46166-D552-4432-8CB8-5C119CAE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8D37D-F379-40B0-808D-1D871E60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76BFC-A368-4E6E-9700-74DF8812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EE974-8C4C-46EA-9EC9-45344307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BEBA5-675F-412D-AEB2-E7E2CC27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B42A5-D80A-4D42-BADF-8D86517E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D0A-A53A-4FDF-A439-A222DEB3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C9792-E3EE-4076-A707-0E6E4EDD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5BD0E-3B42-43A8-8652-EDDC6828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0CFE9-C4EB-49A5-A168-25DF2ACB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23FA5-DBC9-40B9-9994-29CCDC3E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F7276-6E4C-48CB-8AA2-D91EFC3A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528B0-74E3-4231-89AC-29577B1B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1B1F5-AB66-4B51-B36B-8AB9CFF6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156AF-DB99-4708-BA39-65A3B933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A254D-DCEB-4905-AE6C-8A8D67E4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56506-CC31-4587-A4D2-136F99DF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4A3C-2895-4505-9B51-AB583CAE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34AE6-3BC5-4CD6-88FC-3A55BAC6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BED0C-6B57-4CD6-AA6B-4F0D1E89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77A18-8FD7-46D8-BF33-F0E91BB9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8325E-4DA6-4878-A6B6-195D2549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A35F4-79C8-442E-9CC0-C88BFDB5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76C7F-3F99-42B2-95EE-649A791A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24E74-A1B5-43E2-997C-905E3CD6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C20F1-1E98-4F6B-901B-04AE2829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7E198-B279-4F86-A685-155EDDFB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32E77-4E1B-4E5C-A93C-F8CB79EE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C65B-16B9-4FF7-A563-96376DB7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C2AAC-672B-4F4A-9A3C-0B7FAB4B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9D958-23B7-4142-97CC-BEEE41BB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B8CEC-DD37-40AA-9538-D64C26E8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AE184-CC12-4DB0-B52B-4CB9BE4C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039F4-4832-41B1-910B-9B248C89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A3F9E-79CA-4292-AECF-276E5AF4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DB77F-0A85-473A-B723-40B5359B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2EA4F-7C74-4089-854F-35B45251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C8B68-6EA0-49CB-AF30-94F63D06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7210D-160C-4813-BBBA-E27816D7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9142-C10D-46F6-89DF-C4595E88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6377F-9892-409A-8DC7-A64DAAD8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D6742-FE76-4A04-B4F2-9B024605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86660-F12C-4147-ADF1-1123C30D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03F20-856A-4B5E-BE84-EBB0AD6D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A4E16-CECD-4032-8146-AC691B80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38AFE-DCBF-4C16-8E31-3B0B2038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89776-7170-4A18-972F-7D049C4D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5F501-A988-44A3-A75A-0EF2D950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38507-31F6-4AC4-8989-BF67B0B1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5F488-7244-47DD-98D5-A80450C3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221-78EC-44A4-99E2-26B927A6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76BA4-E8BB-474E-AAFD-5251B495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1B1FA-A829-4112-B29C-CCFD3DE0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E243E-9091-4C0C-A314-439FF866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17630-DE40-4980-B945-84ADB3F1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8E61C-4CD6-41D3-A35B-9495F10A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EDA16-D876-4C80-AF70-A09577D1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AD513-1947-4328-987D-F79CCDE6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919E1-FE8B-474C-B29F-858D4EFF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B53E6-A76C-4870-96B1-D125CFBC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8C09F-9140-4273-96A6-0A7A113E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7F1E-83F7-413B-AEF1-7A13D203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D9E6F-ADD5-4A91-92BA-E4D0477D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7B468-7EF8-4337-B97C-4C637251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73071-B60D-4688-8C2D-005C0AA1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1268B-3AC2-4B9B-A3C9-1E4768F1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DB2DD-7894-4EED-AC04-9C576967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9468E-4752-4556-AF59-E94ADBA3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25E1A-4F3B-4D38-B57F-D87F539C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1657-D5E3-4BCA-B72A-4E6E3861353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3B72-5197-4304-83DB-8ED8C23BC37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435D-1E64-4498-887D-6627463E998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D70A-4C68-42A9-89AF-E17DED612C9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E18D-6C69-43CD-A440-51289A50643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1CF3-DF92-480E-BAFE-EB956704A89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D2B9-AEAE-45DD-9D7B-6EDB853430A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51FD-2116-424B-A7CE-08D4DC06937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mhouston.org/" TargetMode="External"/><Relationship Id="rId2" Type="http://schemas.openxmlformats.org/officeDocument/2006/relationships/hyperlink" Target="http://www.hmns.org/" TargetMode="External"/><Relationship Id="rId3" Type="http://schemas.openxmlformats.org/officeDocument/2006/relationships/hyperlink" Target="http://www.menil.org/" TargetMode="External"/><Relationship Id="rId4" Type="http://schemas.openxmlformats.org/officeDocument/2006/relationships/hyperlink" Target="http://www.buffalosoldiermuseum.com/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heritagesociety.org/" TargetMode="External"/><Relationship Id="rId2" Type="http://schemas.openxmlformats.org/officeDocument/2006/relationships/hyperlink" Target="http://www.printingmuseum.org/" TargetMode="External"/><Relationship Id="rId3" Type="http://schemas.openxmlformats.org/officeDocument/2006/relationships/hyperlink" Target="http://www.1940airterminal.org/" TargetMode="Externa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illeroutdoortheatre.com/" TargetMode="External"/><Relationship Id="rId2" Type="http://schemas.openxmlformats.org/officeDocument/2006/relationships/hyperlink" Target="http://www.jgarden.org/" TargetMode="External"/><Relationship Id="rId3" Type="http://schemas.openxmlformats.org/officeDocument/2006/relationships/hyperlink" Target="http://www.georgeranch.org/" TargetMode="External"/><Relationship Id="rId4" Type="http://schemas.openxmlformats.org/officeDocument/2006/relationships/hyperlink" Target="http://www.drt-inc.org/loghouse.htm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houstonfiremuseum.org/" TargetMode="External"/><Relationship Id="rId2" Type="http://schemas.openxmlformats.org/officeDocument/2006/relationships/hyperlink" Target="http://www.portofhouston.com/samhou/samhou.html" TargetMode="External"/><Relationship Id="rId3" Type="http://schemas.openxmlformats.org/officeDocument/2006/relationships/hyperlink" Target="http://www.lsfm.org/" TargetMode="External"/><Relationship Id="rId4" Type="http://schemas.openxmlformats.org/officeDocument/2006/relationships/hyperlink" Target="http://www.galvestonhistory.org/" TargetMode="External"/><Relationship Id="rId5" Type="http://schemas.openxmlformats.org/officeDocument/2006/relationships/hyperlink" Target="http://www.galvestonhistory.org/Texas_Seaport_Museum.asp" TargetMode="External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ceanstaroec.com/museum/tour.htm" TargetMode="External"/><Relationship Id="rId2" Type="http://schemas.openxmlformats.org/officeDocument/2006/relationships/hyperlink" Target="http://www.galvestonrrmuseum.com/" TargetMode="External"/><Relationship Id="rId3" Type="http://schemas.openxmlformats.org/officeDocument/2006/relationships/hyperlink" Target="http://oneroomschoolhouse.org/" TargetMode="External"/><Relationship Id="rId4" Type="http://schemas.openxmlformats.org/officeDocument/2006/relationships/hyperlink" Target="http://www.sanjacinto-museum.org/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tpwd.state.tx.us/spdest/findadest/parks/battleship_texas/" TargetMode="External"/><Relationship Id="rId2" Type="http://schemas.openxmlformats.org/officeDocument/2006/relationships/hyperlink" Target="http://www.battleshiptexas.org/index.cfm" TargetMode="External"/><Relationship Id="rId3" Type="http://schemas.openxmlformats.org/officeDocument/2006/relationships/hyperlink" Target="http://www.spacecenter.org/" TargetMode="External"/><Relationship Id="rId4" Type="http://schemas.openxmlformats.org/officeDocument/2006/relationships/hyperlink" Target="http://www.abnc.org/" TargetMode="External"/><Relationship Id="rId5" Type="http://schemas.openxmlformats.org/officeDocument/2006/relationships/hyperlink" Target="http://www.gcoem.org/" TargetMode="External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socialstudies.org/about" TargetMode="External"/><Relationship Id="rId2" Type="http://schemas.openxmlformats.org/officeDocument/2006/relationships/hyperlink" Target="http://www.csun.edu/~hcedu013/onlineactivities.html" TargetMode="External"/><Relationship Id="rId3" Type="http://schemas.openxmlformats.org/officeDocument/2006/relationships/hyperlink" Target="http://www.csun.edu/~hcedu013/onlineactivities.html" TargetMode="External"/><Relationship Id="rId4" Type="http://schemas.openxmlformats.org/officeDocument/2006/relationships/hyperlink" Target="http://www.pbs.org/teachers/socialstudies/" TargetMode="External"/><Relationship Id="rId5" Type="http://schemas.openxmlformats.org/officeDocument/2006/relationships/hyperlink" Target="http://free.ed.gov/subjects.cfm?subject_id=178" TargetMode="External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fsocialstudies.com/" TargetMode="External"/><Relationship Id="rId2" Type="http://schemas.openxmlformats.org/officeDocument/2006/relationships/hyperlink" Target="http://smithsonianeducation.org/" TargetMode="External"/><Relationship Id="rId3" Type="http://schemas.openxmlformats.org/officeDocument/2006/relationships/hyperlink" Target="http://www.discoveryeducation.com/" TargetMode="External"/><Relationship Id="rId4" Type="http://schemas.openxmlformats.org/officeDocument/2006/relationships/hyperlink" Target="http://www.un.org/cyberschoolbus/peace/home.asp" TargetMode="External"/><Relationship Id="rId5" Type="http://schemas.openxmlformats.org/officeDocument/2006/relationships/hyperlink" Target="http://www.chron.com/cie/" TargetMode="External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Deirdri Join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Keli Swan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Cindy Crookst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2" descr="C:\Users\Keli\AppData\Local\Microsoft\Windows\Temporary Internet Files\Content.IE5\0FD0PLQS\MCj04380590000[1].png"/>
          <p:cNvPicPr/>
          <p:nvPr/>
        </p:nvPicPr>
        <p:blipFill>
          <a:blip r:embed="rId2"/>
          <a:stretch/>
        </p:blipFill>
        <p:spPr>
          <a:xfrm>
            <a:off x="609480" y="990720"/>
            <a:ext cx="24177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52280" y="1481040"/>
            <a:ext cx="883944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eograph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locations and characteristics of places and region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physical characteristics of places and regions affect people's activities and settlement pattern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humans use and modify the physical environment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Economic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ortance of work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roles of producers and consumers in the production of goods and service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purpose of government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role of public official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characteristics of good citizenship as exemplified by historic figures and ordinary peopl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228240" y="1480680"/>
            <a:ext cx="8458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important customs, symbols, and celebrations that represent American beliefs and principles and contribute to our national identit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ultur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significance of works of art in the local community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cience, technology, and societ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science and technology have affected life, past and pres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ocial studies skill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pplies critical-thinking skills to organize and use information acquired from a variety of sources including electronic technology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ommunicates in written, oral, and visual form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ses problem-solving and decision-making skills, working independently and with others, in a variety of setting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088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ird Gra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Histor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individuals, events, and ideas have influenced the history of various communiti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common characteristics of communities, past and pres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oncepts of time and chronolog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eograph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humans adapt to variations in the physical environment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oncepts of location, distance, and direction on maps and glob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Economic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purposes of spending and saving money. Understands the concept of an economic system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businesses operate in the U.S. free enterprise system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225360" y="195120"/>
            <a:ext cx="846792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basic structure and functions of local government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characteristics of good citizenship as exemplified by historic figures and ordinary peopl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act of individual and group decisions on communities in a democratic society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ultur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ethnic and/or cultural celebrations of the United States and other nation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role of real and mythical heroes in shaping the culture of communities, the state, and the n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ortance of writers and artists to the cultural heritage of communiti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142640"/>
            <a:ext cx="822960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ocial studies skil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pplies critical-thinking skills to organize and use information acquired from a variety of sources including electronic technology.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ommunicates effectively in written, oral, and visual form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ses problem-solving and decision-making skills, working independently and with others, in a variety of setting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Fourth Gra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Histor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similarities and differences of Native-American groups in Texas and the Western Hemisphere before European exploration.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auses and effects of European exploration and colonization of Texas and the Western Hemispher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auses and effects of the Texas Revolution, the Republic of Texas, and the annexation of Texas to the United States.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0680"/>
            <a:ext cx="822960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important issues, events, and individuals of the 20th century in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eograph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y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ses geographic tools to collect, analyze, and interpret data. Understands the concept of region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location and patterns of settlement and the geographic factors that influence where people live. present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people adapt to and modify their environ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Economic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basic economic patterns of early societies in Texas and the Western Hemispher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reasons for exploration and colonization. Understands the characteristics and benefits of the free enterprise system in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patterns of work and economic activities in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53352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Texas, the United States, and other parts of the world are economically interdependent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people organized governments in different ways during the early development of Texas.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important ideas in historic documents of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important customs, symbols, and celebrations of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ortance of voluntary individual participation in the democratic proces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ortance of effective leadership in a democratic society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ultu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ontributions of people of various racial, ethnic, and religious groups to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cience, technology, and societ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act of science and technology on life in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ocial studies skill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pplies critical-thinking skills to organize and use information acquired from a variety of sources including electronic technology.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ommunicates in written, oral, and visual form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se a problem-solving process to identify a problem, gather information, list and consider options, consider advantages and disadvantages, choose and implement a solution, and evaluate the effectiveness of the solution; an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B)  use a decision-making process to identify a situation that requires a decision, gather information, identify options, predict consequences, and take action to implement a decision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Children’s Museum of Houst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cmhouston.org/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Houston Museum of Natural Scie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hmns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Menil Collec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menil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Buffalo Soldiers National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buffalosoldiermuseum.com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Heritage Society at Sam Houston Park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heritagesociety.org/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Museum of Printing Histo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printingmuseum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1940 Air Terminal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1940airterminal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elephone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714 Ashland St., Houston, TX 77008 -  (713) 861-9784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2" descr=""/>
          <p:cNvPicPr/>
          <p:nvPr/>
        </p:nvPicPr>
        <p:blipFill>
          <a:blip r:embed="rId4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51920" y="121932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People, Past and Present Skil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identifies similarities and differences in characteristics of peopl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identifies similarities and differences in characteristics of famili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organizes their life around events, time, and routin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Economic Skil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demonstrates that all people need food, clothing, and shelt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participates in activities to help them become aware of what i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means to be a consum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discusses the roles and responsibilities of community workers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eography Skil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identifies and creates common features in her immediate environ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Miller Outdoor Theat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milleroutdoortheatre.co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Japanese Garde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jgarden.or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eorge Ranch Historical Ranch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georgeranch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Pioneer Memorial Log Hous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drt-inc.org/loghouse.htm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Houston Fire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houstonfiremuseum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ort of Houston Boat Tou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portofhouston.com/samhou/samhou.htm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Lone Star Flight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lsfm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Galveston Historical Found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galvestonhistory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http://www.galvestonhistory.org/Texas_Seaport_Museum.asp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le 2" descr=""/>
          <p:cNvPicPr/>
          <p:nvPr/>
        </p:nvPicPr>
        <p:blipFill>
          <a:blip r:embed="rId6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Offshore Energy Center’s Ocean Star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oceanstaroec.com/museum/tour.ht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alveston Railroad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galvestonrrmuseum.com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West Bay Common Schoo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oneroomschoolhouse.or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an Jacinto Museum of Histo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sanjacinto-museum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attleship Tex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tpwd.state.tx.us/spdest/findadest/parks/battleship_texas/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battleshiptexas.org/index.cf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pace Center of Houst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spacecenter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rmand Bayou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abnc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alveston County Office of Emergency Manage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http://www.gcoem.org/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Title 2" descr=""/>
          <p:cNvPicPr/>
          <p:nvPr/>
        </p:nvPicPr>
        <p:blipFill>
          <a:blip r:embed="rId6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990360" y="148104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each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Libraria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ommunity Wor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ank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onstruction Sit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Weath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rocery Stor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9" name="Content Placeholder 1"/>
          <p:cNvSpPr/>
          <p:nvPr/>
        </p:nvSpPr>
        <p:spPr>
          <a:xfrm>
            <a:off x="4648320" y="1494000"/>
            <a:ext cx="3886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Religious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Veter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rand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ity Offic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Hospi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Fa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Everything &amp; Everyone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NCSS (National Council for the Social Studie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ocialstudies.org/abou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alifornia State University, Northridge </a:t>
            </a: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Resour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csun.edu/~hcedu013/onlineactivities.htm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BS Teachers – Social Stud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pbs.org/teachers/socialstudies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Federal Resources for Educational Excellence (FRE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http://free.ed.gov/subjects.cfm?subject_id=178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le 2" descr=""/>
          <p:cNvPicPr/>
          <p:nvPr/>
        </p:nvPicPr>
        <p:blipFill>
          <a:blip r:embed="rId6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earson – Scott Foresman Social Stud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fsocialstudies.com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mithsonian Educatio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smithsonianeducation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Discovery Educ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discoveryeducation.com/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United Nations – CyberSchoolbu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un.org/cyberschoolbus/peace/home.asp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Houston Chronicle – Chronicle in Educ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http://www.chron.com/cie/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le 2" descr=""/>
          <p:cNvPicPr/>
          <p:nvPr/>
        </p:nvPicPr>
        <p:blipFill>
          <a:blip r:embed="rId6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BS – Teachers Social Skills &amp; Safety (Early Childhoo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pbs.org/teachers/earlychildhood/theme/games.html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National Geographic Kid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kids.nationalgeographic.com/Places/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mithsonian – Great History Myste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npg.si.edu/edu/brush/mystery/index.html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Maps.co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maps.com/FunFacts.aspx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523880"/>
            <a:ext cx="82296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Mr. Nussbaum.com – Social Studies Gam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mrnussbaum.com/socgames.htm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rimary Games – Social Stud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primarygames.com/social_studies.ht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ame Aquarium – Social Stud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gamequarium.com/socialstudies.ht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reta’s Game St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games.pppst.com/socialstudies.htm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oogle Earth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earth.google.com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 Skil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identifies flags of the United States and Texa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recites the Pledge of Allegiance to the United States flag and the state flag and observes a moment of silenc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e child engages in voting as a method for group decision makin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e child identifies similarities among people like himself and  classmates as well as among himself and people from other culture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Kindergart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n Kindergarten, the focus is on the self, home, family, and classroom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e study of our state and national heritage begins with an examination of the celebration of patriotic holidays and the contributions of historical peopl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olidays are celebration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istorical figures and ordinary people helped to shape the community, state, and n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ronolog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eograph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oncept of location Over/under/near/far/left/righ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e student understands the physical and human characteristics of the environment landforms, bodies of water, natural resources, and weather: types of houses and ways of earning a living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e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684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Economic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dentify basic human needs; and  explain how basic human needs of food, clothing, and shelter can be met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dentify jobs in the home, school, and community;  explain why people have jobs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dentify purposes for having rules;  identify rules that provide order, security, and safety in the home and school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dentify authority figures in the home, school, and community; explain how authority figures make and enforce rul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dentify the flags of the United States and Texa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Recite the Pledge of Allegianc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Explain the use of voting as a method for group decision mak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ultur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Identify personal attributes common to all people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Identify differences among people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Identify family customs and traditions and explain their importance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Compare family customs and traditions; and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Describe customs of the local community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31840"/>
            <a:ext cx="849816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04920" y="8380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Science, technology, and societ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Identify examples of technology used in the home and schoo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Describe how technology helps accomplish specific tasks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Describe how his or her life might be different without modern technolog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List ways in which technology meets people's needs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Social studies skill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btain information about a topic using a variety of oral sources such as conversations, interviews, and music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btain information about a topic using a variety of visual sources such as pictures, symbols, television, maps, computer images, print material, and artifacts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equence and categorize information; and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Identify main ideas from oral, visual, and print sources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Express ideas orally based on knowledge and experiences; and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Create and interpret visuals including pictures and map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Use a problem-solving process to identify a problem, gather information, list and consider options, consider advantages and disadvantages, choose and implement a solution, and evaluate the effectiveness of the solution; and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Use a decision-making process to identify a situation that requires a decision, gather information, identify options, predict consequences, and take action to implement a decision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115920" y="133200"/>
            <a:ext cx="85042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2286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First Gra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History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how historical figures helped to shape our community, state, and nation. The student is expected t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the origins of customs, holidays, and celebrations.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the concepts of time and chronology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eograph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y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the relative location of places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the purpose of maps and globes. The student is expected t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various physical and human characteristics of the environ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Economics.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the concepts of goods and serv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195120" y="182520"/>
            <a:ext cx="849816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052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ondition of not being able to have all the goods and services one want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value of work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purpose of rules and law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role of authority figures and public officia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important customs, symbols, and celebrations that represent American beliefs and principles and contribute to our national identit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ulture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families meet basic human need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ortance of family beliefs, customs, language, and tradition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cience, technology, and societ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technology has affected daily life, past and present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ocial studies skil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pplies critical-thinking skills to organize and use information acquired from a variety of sources including electronic technology. Communicates in written, oral, and visual form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ses problem-solving and decision-making skills, working independently and with others, in a variety of setting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econd Gra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historical significance of landmarks and celebrations in the community, state, and nation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oncepts of time and chronology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various sources provide information about the past. interview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historical figures and ordinary people helped to shape our community, state, and nation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225360" y="195120"/>
            <a:ext cx="846792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3:49:23Z</dcterms:created>
  <dc:creator>Keli Swann</dc:creator>
  <dc:description/>
  <dc:language>en-US</dc:language>
  <cp:lastModifiedBy>Cindy Crookston</cp:lastModifiedBy>
  <dcterms:modified xsi:type="dcterms:W3CDTF">2009-10-28T19:02:14Z</dcterms:modified>
  <cp:revision>53</cp:revision>
  <dc:subject/>
  <dc:title>Social Studies</dc:title>
</cp:coreProperties>
</file>