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A5C-40CE-41D6-A251-D50822F1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035-9513-47ED-B6CB-5D50450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089-F7DD-4BD2-A377-6C8565C9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D28-FB7A-46CF-B845-AD95D571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ABF9-D3A0-4FF7-9B15-E9D1D6B1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0753-9E0B-4535-ABC3-646911C4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0CA7-5AB0-4CE5-8B85-6D80DE1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62C3-C6E3-447A-9585-3E928B05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5487-5CE2-4625-AC71-3DE97CB3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512C-6F94-4B1A-8420-7FCD12E1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26B0-C8C9-463A-B168-64FE7E65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6D4-5BA1-47AE-8796-1A291756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A568-39E1-4DAB-8F56-D326909E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EE10-EF80-4244-9332-97334AA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131A-9167-4C64-8B3E-B08EAEF1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BD28-C9E3-442F-86E2-9EC050CD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070A-40E6-4D3E-99B5-21B295C4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574EF-CA24-456A-9716-FFA43930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1227-6BF4-4CA1-AD85-A02AC2C3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6637-C92A-405B-B9AC-492A085D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0453-51D0-4A22-A672-F648FEA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0E21-A82C-425E-AA82-E582C956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8C8-E6FF-4DD3-BC55-689B0D90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BBE22-8087-43CD-920F-D9EF994E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2F75-0D29-49E5-A964-598D6973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C35DF-1120-4344-B85C-D315178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A0F9-F15C-4EDC-A9B6-FC2AC3BC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60F1-551F-4021-BA17-68EB7F7A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0A14-7B56-4274-8684-4A33A2C9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F7A0-F0CC-472A-95EE-74F4107F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0A71-4941-454B-8888-8B45AE1C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F7C2-C8DA-4C4C-853A-562921B6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82BF-8833-4B29-A3E0-BD82AB4D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5B0-DE2C-424E-8066-C7166AB8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168C0-891D-4781-9386-1776C8AB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A0C9-6AC5-432F-BB34-6BC0A3CA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EED4-F316-440E-8E40-9E327C4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4389-BC3F-411E-A7C7-FD311039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320E-9558-4BBB-9C6E-7E6B0FF7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5747-4886-4DC2-8FC1-1FB3EEDE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FADEA-3032-4A71-8B53-A9A6391F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5446-CF31-4036-827A-CE40389E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DF11C-3DA7-47B8-9B1D-0C4D88F1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4D890-61A6-43BB-ABC2-0709F076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F76-048B-487E-AB7D-6E5699A1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B48F-AD16-4FF2-8846-4C015BAF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912E-B68E-4E4F-B110-0EFF9518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8BBA-3B87-4747-9577-EB9CD96E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1089A-DDE0-4537-8D36-6CD4E1A1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7FF2-EFE9-49A1-94DD-4CE3F02E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4F6E-2D78-4F09-A7C6-3A821BBC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DE0AA-73B6-4822-9B3A-3B278F8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398CD-31AF-490A-8D0A-FE2E220C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CDF50-4116-425A-8C74-66C2BAC6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ECE24-A72E-4971-BCD5-50932A9F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060-B34D-4002-8903-0F629BC2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8D97F-1504-4C38-A3A3-AAC0814B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D4E64-A464-42A6-96CE-099E1528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BDDDB-53E2-49AC-8EB9-AE5ED7A0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2EEB7-AC68-43A6-96F2-CC9EED0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0275-E563-4B10-9E2E-3D32ADEA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ED09A-1F4C-4494-B4F2-A722C461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09F73-BEF7-4BCB-ADD8-1B03E1D1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45D47-41E1-4D07-9B2C-98D887F4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EDCA1-A86E-4DBE-A19F-9732AFC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AAFD7-185D-4CA4-8DD3-801282F5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D50-342F-4C65-A44C-6B51153C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9C30D-4850-425D-A8FC-42B13887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0BF70-23A3-4E07-A4EC-C24351DB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E76D-873D-4302-A0FF-315466B1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14437-2A31-41D6-AD36-C4038F2A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A2CB-5284-49F1-B1C2-C91C5B9D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0D1C1-CF26-4374-8929-93267150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828CC-16ED-4730-BFC2-4890390A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FE605-26AF-4061-A377-A8FEFB98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61249-BDC2-4611-890C-FF6B253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11A8C-2C3D-47E2-8CAD-298870B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8A4-2198-4C34-B182-521C7AC7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D9BF8-84D1-4661-A71C-3B672512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35C22-551B-4EB6-B9E4-9599354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ECA05-B8D2-4916-A86E-1A4FF7CC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3F53C-F01F-438E-AE5F-C6234BFD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27604-C27F-48D2-B3C4-9E4CA27C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75617-A956-4BA7-BDD4-9F97328F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E6C7D-1712-466D-91B9-DFD3D9B4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145D5-EB4A-4F97-A0A4-4C35BBA0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5CDE1-CF0F-4F50-8844-8360A69D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E8D88-8DF7-40E8-B177-4C6D1BDA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067-16BE-4238-BF77-7ADA553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F1ABB-FA5D-473C-8293-80004266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A4A37-CEF4-4D15-A0E2-F8AED669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3346B-0E2E-46F7-ADFD-5D8FD6D4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A4A5-A4E9-4B5D-AAAB-8B660DB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F2ACF-05A3-4CB1-AD5A-555BB39E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0185A-F303-4AEE-A5DF-2063AB01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29DE8-4209-4B4A-806E-ADE6D87D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EE18-705C-4BB0-B3FB-7BEF667BA8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43DE-B99C-49E1-B836-BA6CCA073A3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114D-55E5-4F01-8DBB-6D0CDF9AEB3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5C59-4760-46EF-AF2F-2064DD07144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30CB-E383-452F-A2E3-562A950DF99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0BE-08E8-47EC-9BC8-305E94FE884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A7D2-72F3-474B-8E3A-3F7AA360067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2560-E6E5-4232-B25C-6AC3FE6B538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mhouston.org/" TargetMode="External"/><Relationship Id="rId2" Type="http://schemas.openxmlformats.org/officeDocument/2006/relationships/hyperlink" Target="http://www.hmns.org/" TargetMode="External"/><Relationship Id="rId3" Type="http://schemas.openxmlformats.org/officeDocument/2006/relationships/hyperlink" Target="http://www.menil.org/" TargetMode="External"/><Relationship Id="rId4" Type="http://schemas.openxmlformats.org/officeDocument/2006/relationships/hyperlink" Target="http://www.buffalosoldiermuseum.com/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heritagesociety.org/" TargetMode="External"/><Relationship Id="rId2" Type="http://schemas.openxmlformats.org/officeDocument/2006/relationships/hyperlink" Target="http://www.printingmuseum.org/" TargetMode="External"/><Relationship Id="rId3" Type="http://schemas.openxmlformats.org/officeDocument/2006/relationships/hyperlink" Target="http://www.1940airterminal.org/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lleroutdoortheatre.com/" TargetMode="External"/><Relationship Id="rId2" Type="http://schemas.openxmlformats.org/officeDocument/2006/relationships/hyperlink" Target="http://www.jgarden.org/" TargetMode="External"/><Relationship Id="rId3" Type="http://schemas.openxmlformats.org/officeDocument/2006/relationships/hyperlink" Target="http://www.georgeranch.org/" TargetMode="External"/><Relationship Id="rId4" Type="http://schemas.openxmlformats.org/officeDocument/2006/relationships/hyperlink" Target="http://www.drt-inc.org/loghouse.htm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houstonfiremuseum.org/" TargetMode="External"/><Relationship Id="rId2" Type="http://schemas.openxmlformats.org/officeDocument/2006/relationships/hyperlink" Target="http://www.portofhouston.com/samhou/samhou.html" TargetMode="External"/><Relationship Id="rId3" Type="http://schemas.openxmlformats.org/officeDocument/2006/relationships/hyperlink" Target="http://www.lsfm.org/" TargetMode="External"/><Relationship Id="rId4" Type="http://schemas.openxmlformats.org/officeDocument/2006/relationships/hyperlink" Target="http://www.galvestonhistory.org/" TargetMode="External"/><Relationship Id="rId5" Type="http://schemas.openxmlformats.org/officeDocument/2006/relationships/hyperlink" Target="http://www.galvestonhistory.org/Texas_Seaport_Museum.asp" TargetMode="Externa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ceanstaroec.com/museum/tour.htm" TargetMode="External"/><Relationship Id="rId2" Type="http://schemas.openxmlformats.org/officeDocument/2006/relationships/hyperlink" Target="http://www.galvestonrrmuseum.com/" TargetMode="External"/><Relationship Id="rId3" Type="http://schemas.openxmlformats.org/officeDocument/2006/relationships/hyperlink" Target="http://oneroomschoolhouse.org/" TargetMode="External"/><Relationship Id="rId4" Type="http://schemas.openxmlformats.org/officeDocument/2006/relationships/hyperlink" Target="http://www.sanjacinto-museum.org/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pwd.state.tx.us/spdest/findadest/parks/battleship_texas/" TargetMode="External"/><Relationship Id="rId2" Type="http://schemas.openxmlformats.org/officeDocument/2006/relationships/hyperlink" Target="http://www.battleshiptexas.org/index.cfm" TargetMode="External"/><Relationship Id="rId3" Type="http://schemas.openxmlformats.org/officeDocument/2006/relationships/hyperlink" Target="http://www.spacecenter.org/" TargetMode="External"/><Relationship Id="rId4" Type="http://schemas.openxmlformats.org/officeDocument/2006/relationships/hyperlink" Target="http://www.abnc.org/" TargetMode="External"/><Relationship Id="rId5" Type="http://schemas.openxmlformats.org/officeDocument/2006/relationships/hyperlink" Target="http://www.gcoem.org/" TargetMode="Externa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ocialstudies.org/about" TargetMode="External"/><Relationship Id="rId2" Type="http://schemas.openxmlformats.org/officeDocument/2006/relationships/hyperlink" Target="http://www.csun.edu/~hcedu013/onlineactivities.html" TargetMode="External"/><Relationship Id="rId3" Type="http://schemas.openxmlformats.org/officeDocument/2006/relationships/hyperlink" Target="http://www.csun.edu/~hcedu013/onlineactivities.html" TargetMode="External"/><Relationship Id="rId4" Type="http://schemas.openxmlformats.org/officeDocument/2006/relationships/hyperlink" Target="http://www.pbs.org/teachers/socialstudies/" TargetMode="External"/><Relationship Id="rId5" Type="http://schemas.openxmlformats.org/officeDocument/2006/relationships/hyperlink" Target="http://free.ed.gov/subjects.cfm?subject_id=178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fsocialstudies.com/" TargetMode="External"/><Relationship Id="rId2" Type="http://schemas.openxmlformats.org/officeDocument/2006/relationships/hyperlink" Target="http://smithsonianeducation.org/" TargetMode="External"/><Relationship Id="rId3" Type="http://schemas.openxmlformats.org/officeDocument/2006/relationships/hyperlink" Target="http://www.discoveryeducation.com/" TargetMode="External"/><Relationship Id="rId4" Type="http://schemas.openxmlformats.org/officeDocument/2006/relationships/hyperlink" Target="http://www.un.org/cyberschoolbus/peace/home.asp" TargetMode="External"/><Relationship Id="rId5" Type="http://schemas.openxmlformats.org/officeDocument/2006/relationships/hyperlink" Target="http://www.chron.com/cie/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Deirdri Join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Keli Swan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Cindy Crookst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C:\Users\Keli\AppData\Local\Microsoft\Windows\Temporary Internet Files\Content.IE5\0FD0PLQS\MCj04380590000[1].png"/>
          <p:cNvPicPr/>
          <p:nvPr/>
        </p:nvPicPr>
        <p:blipFill>
          <a:blip r:embed="rId2"/>
          <a:stretch/>
        </p:blipFill>
        <p:spPr>
          <a:xfrm>
            <a:off x="609480" y="99072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52280" y="1481040"/>
            <a:ext cx="883944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locations and characteristics of places and reg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hysical characteristics of places and regions affect people's activities and settlement patter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umans use and modify the physical enviro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wor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s of producers and consumers in the production of goods and servic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 of government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public official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haracteristics of good citizenship as exemplified by historic figures and ordinary peopl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1480680"/>
            <a:ext cx="84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that represent American beliefs and principles and contribute to our national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significance of works of art in the local communi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science and technology have affected life, past and pres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in written, oral, and visual form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8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ird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individuals, events, and ideas have influenced the history of various communit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ommon characteristics of communities, past and pres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umans adapt to variations in the physical enviro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location, distance, and direction on maps and glob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s of spending and saving money. Understands the concept of an economic syste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businesses operate in the U.S. free enterprise syste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basic structure and functions of local gover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haracteristics of good citizenship as exemplified by historic figures and ordinary peopl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act of individual and group decisions on communities in a democratic socie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ethnic and/or cultural celebrations of the United States and other n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real and mythical heroes in shaping the culture of communities, the state, and the n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writers and artists to the cultural heritage of communit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14264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effectively in written, oral, and visual form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urth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similarities and differences of Native-American groups in Texas and the Western Hemisphere before European exploration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auses and effects of European exploration and colonization of Texas and the Western Hemisp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auses and effects of the Texas Revolution, the Republic of Texas, and the annexation of Texas to the United States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068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issues, events, and individuals of the 20th century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geographic tools to collect, analyze, and interpret data. Understands the concept of reg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location and patterns of settlement and the geographic factors that influence where people live. prese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eople adapt to and modify their enviro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basic economic patterns of early societies in Texas and the Western Hemisp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easons for exploration and colonization. Understands the characteristics and benefits of the free enterprise system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patterns of work and economic activities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3352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Texas, the United States, and other parts of the world are economically interdepend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eople organized governments in different ways during the early development of Texas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ideas in historic documents of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of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voluntary individual participation in the democratic proces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effective leadership in a democratic socie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tributions of people of various racial, ethnic, and religious groups to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act of science and technology on life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in written, oral, and visual form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 a problem-solving process to identify a problem, gather information, list and consider options, consider advantages and disadvantages, choose and implement a solution, and evaluate the effectiveness of the solution; a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B)  use a decision-making process to identify a situation that requires a decision, gather information, identify options, predict consequences, and take action to implement a decisi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Children’s Museum of Houst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cmhouston.org/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ouston Museum of Natural Scie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hmns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Menil Colle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menil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Buffalo Soldiers National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buffalosoldiermuseum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eritage Society at Sam Houston Par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eritagesociety.org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useum of Printing 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rinting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1940 Air Terminal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1940airterminal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elephone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714 Ashland St., Houston, TX 77008 -  (713) 861-978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1920" y="12193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People, Past and Present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similarities and differences in characteristics of peopl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similarities and differences in characteristics of famil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organizes their life around events, time, and routin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demonstrates that all people need food, clothing, and shel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participates in activities to help them become aware of what 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eans to be a consum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discusses the roles and responsibilities of community worker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and creates common features in her immediate enviro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iller Outdoor Theat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milleroutdoortheatre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Japanese Garde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jgarden.or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eorge Ranch Historical Ranc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georgeranch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Pioneer Memorial Log Hou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drt-inc.org/loghouse.htm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ouston Fire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ustonfire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ort of Houston Boat Tou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ortofhouston.com/samhou/samhou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one Star Flight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lsf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Galveston Historical Found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galvestonhistory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galvestonhistory.org/Texas_Seaport_Museum.asp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ffshore Energy Center’s Ocean Star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oceanstaroec.com/museum/tour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lveston Railroad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galvestonrrmuseum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st Bay Common Sch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oneroomschoolhouse.or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an Jacinto Museum of 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sanjacinto-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ttleship Tex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pwd.state.tx.us/spdest/findadest/parks/battleship_texas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battleshiptexas.org/index.cf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pace Center of Houst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pacecenter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rmand Bayo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abnc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lveston County Office of Emergency Manag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gcoem.org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90360" y="148104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ibraria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mmunity Wor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n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nstruction Si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ocery Sto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9" name="Content Placeholder 1"/>
          <p:cNvSpPr/>
          <p:nvPr/>
        </p:nvSpPr>
        <p:spPr>
          <a:xfrm>
            <a:off x="4648320" y="149400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ligious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Veter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and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ity 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verything &amp; Everyon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CSS (National Council for the Social Studie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ocialstudies.org/abo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alifornia State University, Northridge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Resour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csun.edu/~hcedu013/onlineactivities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BS Teachers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pbs.org/teachers/socialstudies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ederal Resources for Educational Excellence (FRE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free.ed.gov/subjects.cfm?subject_id=17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earson – Scott Foresman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fsocialstudies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mithsonian Educatio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smithsonianeducation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iscovery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discoveryeducation.com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nited Nations – CyberSchoolb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un.org/cyberschoolbus/peace/home.asp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ouston Chronicle – Chronicle in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chron.com/cie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BS – Teachers Social Skills &amp; Safety (Early Childhoo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pbs.org/teachers/earlychildhood/theme/games.htm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ational Geographic Kid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kids.nationalgeographic.com/Places/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mithsonian – Great History Myste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pg.si.edu/edu/brush/mystery/index.htm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aps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maps.com/FunFacts.aspx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52388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r. Nussbaum.com – Social Studies Gam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mrnussbaum.com/socgames.htm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rimary Games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primarygames.com/social_studies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me Aquarium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gamequarium.com/socialstudies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eta’s Game S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games.pppst.com/socialstudies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ogle Eart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earth.google.com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flags of the United States and Tex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recites the Pledge of Allegiance to the United States flag and the state flag and observes a moment of sile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hild engages in voting as a method for group decision mak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hild identifies similarities among people like himself and  classmates as well as among himself and people from other cultur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 Kindergarten, the focus is on the self, home, family, and classroom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study of our state and national heritage begins with an examination of the celebration of patriotic holidays and the contributions of historical peopl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lidays are celebr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storical figures and ordinary people helped to shape the community, state, and n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ronolog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 of location Over/under/near/far/left/r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student understands the physical and human characteristics of the environment landforms, bodies of water, natural resources, and weather: types of houses and ways of earning a living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basic human needs; and  explain how basic human needs of food, clothing, and shelter can be met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jobs in the home, school, and community;  explain why people have job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purposes for having rules;  identify rules that provide order, security, and safety in the home and school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authority figures in the home, school, and community; explain how authority figures make and enforce rul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the flags of the United States and Tex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cite the Pledge of Allegia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xplain the use of voting as a method for group decision mak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personal attributes common to all peopl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differences among people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family customs and traditions and explain their importance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Compare family customs and traditions; and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escribe customs of the local community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81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0492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dentify examples of technology used in the home and schoo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scribe how technology helps accomplish specific task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scribe how his or her life might be different without modern technolog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ist ways in which technology meets people's need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tain information about a topic using a variety of oral sources such as conversations, interviews, and music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tain information about a topic using a variety of visual sources such as pictures, symbols, television, maps, computer images, print material, and artifacts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quence and categorize information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dentify main ideas from oral, visual, and print source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xpress ideas orally based on knowledge and experiences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reate and interpret visuals including pictures and map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 a problem-solving process to identify a problem, gather information, list and consider options, consider advantages and disadvantages, choose and implement a solution, and evaluate the effectiveness of the solution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 a decision-making process to identify a situation that requires a decision, gather information, identify options, predict consequences, and take action to implement a decisio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15920" y="133200"/>
            <a:ext cx="85042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irst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how historical figures helped to shape our community, state, and nation. The student is expect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origins of customs, holidays, and celebrations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eograph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y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relative location of place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purpose of maps and globes. The student is expect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various physical and human characteristics of the enviro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conomics.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concepts of goods and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dition of not being able to have all the goods and services one wan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value of wor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 of rules and law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authority figures and public offici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that represent American beliefs and principles and contribute to our national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families meet basic human need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family beliefs, customs, language, and tradi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technology has affected daily life, past and pres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 Communicates in written, oral, and visual form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econd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historical significance of landmarks and celebrations in the community, state, and nati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various sources provide information about the past. interview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istorical figures and ordinary people helped to shape our community, state, and nati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3:49:23Z</dcterms:created>
  <dc:creator>Keli Swann</dc:creator>
  <dc:description/>
  <dc:language>en-US</dc:language>
  <cp:lastModifiedBy>Cindy Crookston</cp:lastModifiedBy>
  <dcterms:modified xsi:type="dcterms:W3CDTF">2009-10-28T19:02:14Z</dcterms:modified>
  <cp:revision>53</cp:revision>
  <dc:subject/>
  <dc:title>Social Studies</dc:title>
</cp:coreProperties>
</file>